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A0A7-14BB-4318-A097-A351DFF6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BB0E-8C3D-455D-9691-A8FE8CAA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80A7-D365-480B-8B33-7D257895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D848-7BF7-4C24-9326-BF2BCFD9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1B29-C938-4DDC-9196-29F8A6CE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C97B-1C55-48CD-B2F7-11C5F411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3206-812A-4DAB-A0DD-B80E9644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431F-0014-4A71-81DB-600DED28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2352-1733-4B40-8EEA-9E9629F7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97BB-F5EE-4582-B1A4-BC691001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6557-ECF3-495C-8303-A8B12F9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C79D-69AF-4350-8DE5-317C0CF5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DE3B-9DF6-408C-A9B4-6C7283BE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4866-F767-4A2D-8BC3-9C4054C4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81AB-7ABC-4C67-8DFB-1513CF32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F1E4-61E4-416A-8E74-C8F42799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7048-4A00-4D02-85C8-D7AC8C19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2DFF-A975-48F3-AD1C-9C017A15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7216-10E1-421D-937F-C65B5FFE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B3C7-CDCA-41F2-AD4A-9C75ACEC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E92F-0DD2-4121-89D4-6E9C77C3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6DAE-46FA-4ADF-AB51-3DB9B50B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A63B-2F00-4D47-AF65-E6DE79ED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A41C-F445-435B-8DCB-8CC74025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8D5B-DD64-4147-B2D4-CAAFB9102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C3AC-5E54-43F2-ACF9-4D912E792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300/16386/bean_16386_lg.gif&amp;imgrefurl=http://etc.usf.edu/clipart/16300/16386/bean_16386.htm&amp;usg=__307x0lpDU2IGLLlYiBfoMhq1OSg=&amp;h=700&amp;w=631&amp;sz=87&amp;hl=en&amp;start=4&amp;itbs=1&amp;tbnid=4tGOI5GJWqOm2M:&amp;tbnh=140&amp;tbnw=126&amp;prev=/images%3Fq%3Dbean%2Bplant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tomcassidy.com/cocacola_logo.gif&amp;imgrefurl=http://tomcassidy.com/cocacola_collector.html&amp;usg=__qS3_a1xupYraVJROH-wbdQnGA5g=&amp;h=320&amp;w=320&amp;sz=27&amp;hl=en&amp;start=7&amp;itbs=1&amp;tbnid=n2sTnVC1SaWU5M:&amp;tbnh=118&amp;tbnw=118&amp;prev=/images%3Fq%3Dcoca%2Bcola%26hl%3Den%26safe%3Dactive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/imgres?imgurl=http://f00.inventorspot.com/images/DR_pepper_logo.jpg&amp;imgrefurl=http://inventorspot.com/articles/top_five_2010_super_bowl_xliv_commercials_sneak_previews_37433&amp;usg=__tZ1sTzFAUBlnPIi2OiB85S5j2bo=&amp;h=200&amp;w=200&amp;sz=10&amp;hl=en&amp;start=10&amp;itbs=1&amp;tbnid=y0UXa0HTJje6yM:&amp;tbnh=104&amp;tbnw=104&amp;prev=/images%3Fq%3Ddr.%2Bpepper%2Blogo%26hl%3Den%26safe%3Dactive%26gbv%3D2%26tbs%3Disch: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akvisit.com/jobs/coca-cola.jpg&amp;imgrefurl=http://www.pakvisit.com/jobs/jobs_%20in_Bahria-Town_%20Pakistan_lahore_karachi_Islamabad_Sialkot_Faisalabad.html&amp;usg=__Ihh1JvRbAdHawm9Db1dxyFh7QM4=&amp;h=320&amp;w=430&amp;sz=36&amp;hl=en&amp;start=6&amp;itbs=1&amp;tbnid=lkLvHtFyvJEVvM:&amp;tbnh=94&amp;tbnw=126&amp;prev=/images%3Fq%3Dcoca%2Bcola%26hl%3Den%26safe%3Dactive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6400"/>
            <a:ext cx="60199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oda-synthesi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: Cole R. Slupsk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95288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0120" y="533412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28800" y="5257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a garden? Do you hate it when your garden doesn’t grow fast enough? I might have the answer to all of your problems. So, does Dr. Pepper and Coca Cola affect the growth of pl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the Dr. Pepper will make the okra grow faster. I think the Coca Cola will be too acidic. The water plant will grow at a steady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ra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a 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Pe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 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 c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2438280"/>
            <a:ext cx="1200240" cy="895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248000" y="2809800"/>
            <a:ext cx="64800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all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ok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with water until 1”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one plant with water, one with Dr. Pepper, and one with Coca C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eginning, the Coca Cola Plant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while, the Dr. Pepper plant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plant WON!!!!!!!!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Hypothesis was wr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876920" y="1752480"/>
          <a:ext cx="396216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39621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ather was rough throughout the time period of waiting for the plants to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nts all started at different heights. Clipping them would kill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1 week, the Coca Cola plant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orrible odor came from the Dr. Pepper Plant at 1 ½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the Dr. Pepper plant died after 2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plant never died and will now be placed in my ga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concluded that Dr. Pepper and Coca Cola will not help your plants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fashioned water works the best. You should not use foreign liquids on your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Riffel, for letting me make her room st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ather, for buying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Riffel’s love of soda to use it in a science fair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elf, for do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eers. They endured the horrible smell of one of the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30:20Z</dcterms:created>
  <dc:creator>STERLING  USD376</dc:creator>
  <dc:description/>
  <dc:language>en-US</dc:language>
  <cp:lastModifiedBy>STERLING  USD376</cp:lastModifiedBy>
  <dcterms:modified xsi:type="dcterms:W3CDTF">2010-04-30T14:12:01Z</dcterms:modified>
  <cp:revision>11</cp:revision>
  <dc:subject/>
  <dc:title>PowerPoint Presentation</dc:title>
</cp:coreProperties>
</file>